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2E71-BF4A-4D79-898E-9F88D5B3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304-9B0B-43C5-BDB5-28C04FF2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225-BA17-4C23-B65C-4EDD8F97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74D-35A1-4A72-917E-C6F83012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520-B4DE-4428-8863-69D9E178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328-A83F-4E37-9227-C81DFA73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31E-FB40-4DBC-8EC3-C709A82A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84F-08E4-41AD-AD17-1FE00653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A11-8166-4976-9BCC-8C1E62D2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5F2-1CCE-4CD1-8F19-113A3B11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E94-5714-47BB-9D63-9210405E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B73-2C53-4FD7-BAFB-EFA7429C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B959-9A4D-42FD-9DE4-FD7AEC27D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iRGZOCaD9sQ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1980720"/>
            <a:ext cx="41688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t2.gstatic.com/images?q=tbn:ANd9GcSmOZYYRX8_4IZzXOhcInjdCTzYK6GgRf93H61hrBIdkkUwWZGmhw"/>
          <p:cNvPicPr/>
          <p:nvPr/>
        </p:nvPicPr>
        <p:blipFill>
          <a:blip r:embed="rId1"/>
          <a:stretch/>
        </p:blipFill>
        <p:spPr>
          <a:xfrm>
            <a:off x="3505320" y="0"/>
            <a:ext cx="5659200" cy="3884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0" y="0"/>
            <a:ext cx="33526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/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im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ow did Sumerians use technology to transform Mesopotamia  into a “Garden of Eden” (and can we use technology to do the same today)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pic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Mesopotamia and Water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 Now: Answer the three questions silent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st three ways you use water on a daily ba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st three ways you OBTAIN water for your daily u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ecul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How would you obtain water if society ceased to exi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watching each video, write a one sentence summary/rea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505320" y="388476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http://www.youtube.com/watch?v=iRGZOCaD9sQ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(water cri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s://www.youtube.com/watch?v=-766tdJXi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California water cri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youtube.com/watch?v=le4J_YgNL2A (China’s water problem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505320" y="62118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www.youtube.com/watch?v=OMgJuYOCYJ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Ink 2" descr=""/>
          <p:cNvPicPr/>
          <p:nvPr/>
        </p:nvPicPr>
        <p:blipFill>
          <a:blip r:embed="rId3"/>
          <a:stretch/>
        </p:blipFill>
        <p:spPr>
          <a:xfrm>
            <a:off x="1533600" y="3581280"/>
            <a:ext cx="2376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upload.wikimedia.org/wikipedia/commons/thumb/c/c6/Tuhala_Witches_Well2_21-03-2013.jpg/640px-Tuhala_Witches_Well2_21-03-2013.jpg"/>
          <p:cNvPicPr/>
          <p:nvPr/>
        </p:nvPicPr>
        <p:blipFill>
          <a:blip r:embed="rId1"/>
          <a:stretch/>
        </p:blipFill>
        <p:spPr>
          <a:xfrm>
            <a:off x="4572000" y="-42840"/>
            <a:ext cx="4572000" cy="69008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52280" y="117360"/>
            <a:ext cx="41911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ch the very short video clip on how 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u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rk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element of civilization can th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u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ategorized 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youtube.com/watch?v=i5X_jwnb-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over the article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each of the three questions ON HW #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 (If you do not have #6, use a separate sheet of loose-leaf). Two sentences for each question AT LEAST! Clearly label HW#6 and today’s classwor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new ideas, current technology, and new inventions help solve the world’s water crises? Compose a one paragraph response NOW! You have seven minutes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on HW #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28600" y="30492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#6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opotamia- read pages 5-top of page 9 from the textboo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 1,2,3, and 4 on page 8 (based on the artifact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entences for each answ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(#5) choose TWO people or groups of people (Sargon, Hammurabi, slaves, etc.) and TWO concepts (religion, government, mathematics, etc.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person/persons and the concepts. Then explain why they interested you and why they are important (two sentences for each, eight total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cis-Mesopota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précis summarizing what you learned about Mesopotamia and Sumer this week. Include an introduction, one body paragraph, and a conclus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228600" y="22860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 for Today’s Film Clip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opotamia-Return to E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ory of Noah’s Ark is similar to what ancient tex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evidence does the film give to demonstrate Sumer’s role as the first civilizati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a Sumerian royal tomb and the funeral ceremon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a historical basis for the Garden of Eden (Paradise)? Expla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for these questions and points while you watch today’s film clip. Be prepared to share your respon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cis-Mesopota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précis summarizing what you learned about Mesopotamia and Sumer this week. Include an introduction, one body paragraph, and a conclus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1T17:41:40Z</dcterms:created>
  <dc:creator>mweiler</dc:creator>
  <dc:description/>
  <dc:language>en-US</dc:language>
  <cp:lastModifiedBy>mweiler</cp:lastModifiedBy>
  <dcterms:modified xsi:type="dcterms:W3CDTF">2016-04-01T17:42:02Z</dcterms:modified>
  <cp:revision>1</cp:revision>
  <dc:subject/>
  <dc:title>Slide 1</dc:title>
</cp:coreProperties>
</file>